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10515600" cy="7315200"/>
  <p:notesSz cx="6858000" cy="9294813"/>
  <p:custShowLst>
    <p:custShow name="Chapter Resources" id="0">
      <p:sldLst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2CA2-BD83-450B-9B34-C7B996903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FDA0-6469-477F-921C-EA6930C1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EEB3-0FF6-49D6-A4F6-0C58C603E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135F-1B4A-4A46-A6DF-D5ADB3CD4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DD27-E6C2-42AD-8BA7-CBDEFAF60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F81B-D09F-41AB-A4EB-1B689AD6C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790D-BD8B-4F6E-B9F6-1C69CD956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9C1-DA1A-4743-BF9D-14BC899C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5EDA-1A77-4FC2-B4BF-4476E15C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42C9-960B-428D-93E7-42AD2179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A020-989C-42DA-9F4B-AA5D32EF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11A0-4A6C-4130-A0B7-1DBAC644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9476-4521-4345-886D-2FCAF71E9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A77D-7965-40D4-9763-D2F23D76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06D2-E54F-4DAE-8CE7-FC900ADF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00FB-8B40-4BA9-B617-0A4C4C88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C8B-CBC4-4DB0-BA4C-5C1A37184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E960-51BB-4054-B2FE-2D3CD98E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7976-6AB6-45AA-9793-A148584AE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B303-0819-4584-A0FA-F436F936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C2D-9708-4E56-B6C3-C1C38E4B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2059-F70C-4088-B593-16ED494F7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AEFD-DFEC-44F6-8560-1BB72352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669C-F0C4-42B1-B488-9154470E0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2906-168C-4833-AF00-38BD63FB1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26D5-6FC4-4511-9812-81BF3BDFB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AF8D-1DB0-4C01-8690-7FE7BD77E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5821-8808-47FB-8984-D1CA2CB42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1CE5-FF01-4217-9190-FAC6D3EDC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D71-A7F3-4687-B44B-85786B716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D1E5-97BF-4928-889D-0185E9A59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8E83-1728-4B2E-896C-EAFA98301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AEA2-7913-4D5A-AEE3-2C16CD15A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8215-2207-4F09-AA72-C0078AEB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A898-BF01-473F-81B6-2FD09176F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7047-C6B8-4023-9F22-B99A4FFF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ED63-0B17-436A-AA2D-A69905223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81E6-7BA2-4548-BF46-22CA980A2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15D-825A-4439-B66A-2D8623C6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022F-CD16-4391-828D-83EA3970E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E2C8-ED21-4173-BF57-1F7544810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66E-7941-4EBB-ABFA-54A40438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/>
          <p:cNvPicPr/>
          <p:nvPr/>
        </p:nvPicPr>
        <p:blipFill>
          <a:blip r:embed="rId4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20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rying_capacity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tmp/home/.config/libreoffice/4/user/gallery/demography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zero_population_growth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mp/home/.config/libreoffice/4/user/gallery/age_structure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ispersion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population_density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nsity_independent_factor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nsity_dependent_factor.wav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pulation_growth_rate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ogistic Grow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785880" y="2117880"/>
            <a:ext cx="42433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’s growth slows or stops following exponential growth, at the population’s carrying capa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ch 4 im 11"/>
          <p:cNvPicPr/>
          <p:nvPr/>
        </p:nvPicPr>
        <p:blipFill>
          <a:blip r:embed="rId1"/>
          <a:stretch/>
        </p:blipFill>
        <p:spPr>
          <a:xfrm>
            <a:off x="5425920" y="1919160"/>
            <a:ext cx="4480200" cy="34261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785880" y="1628640"/>
            <a:ext cx="80532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pulation stops increasing when the number of births is less than the number of deaths or when emigration exceeds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4" descr="conceptsinmotion"/>
          <p:cNvPicPr/>
          <p:nvPr/>
        </p:nvPicPr>
        <p:blipFill>
          <a:blip r:embed="rId1"/>
          <a:stretch/>
        </p:blipFill>
        <p:spPr>
          <a:xfrm>
            <a:off x="7513560" y="522360"/>
            <a:ext cx="2425680" cy="380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MAC OSX sm button"/>
          <p:cNvPicPr/>
          <p:nvPr/>
        </p:nvPicPr>
        <p:blipFill>
          <a:blip r:embed="rId2"/>
          <a:stretch/>
        </p:blipFill>
        <p:spPr>
          <a:xfrm>
            <a:off x="8686800" y="6059520"/>
            <a:ext cx="1054080" cy="5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cmFlash782"/>
          <p:cNvGraphicFramePr/>
          <p:nvPr/>
        </p:nvGraphicFramePr>
        <p:xfrm>
          <a:off x="990720" y="957240"/>
          <a:ext cx="76215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cmFlash78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95724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arrying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85880" y="2021040"/>
            <a:ext cx="8663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aximum number of individuals in a species that an environment can suppo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long term is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785880" y="370512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ing capacity is limited by the *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31240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productiv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85880" y="2014560"/>
            <a:ext cx="86630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of organisms vary in the number of births per reproduction cycle, in the age that reproduction begins, and in the life span of the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85880" y="3316320"/>
            <a:ext cx="9043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rategist is generally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785880" y="401652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85880" y="471312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785880" y="1643040"/>
            <a:ext cx="8663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 strategy,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rategy, is an adaptation for living in an environment where fluctuation in biotic or abiotic factors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85880" y="3316320"/>
            <a:ext cx="9043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rategist is generally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85880" y="401652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85880" y="470520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785880" y="1647720"/>
            <a:ext cx="85867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rying-capacity strategy,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rategy, is an adaptation for living in stable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85880" y="1309680"/>
            <a:ext cx="8739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uman Population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90560" y="1828800"/>
            <a:ext cx="8810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udy of human population size, density, distribution, movement, and birth and death rates is </a:t>
            </a:r>
            <a:r>
              <a:rPr b="0" lang="en-US" sz="2600" spc="-1" strike="noStrike">
                <a:solidFill>
                  <a:srgbClr val="a6000d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3" descr="ch 4 im 17"/>
          <p:cNvPicPr/>
          <p:nvPr/>
        </p:nvPicPr>
        <p:blipFill>
          <a:blip r:embed="rId1"/>
          <a:stretch/>
        </p:blipFill>
        <p:spPr>
          <a:xfrm>
            <a:off x="2378160" y="2786040"/>
            <a:ext cx="5761080" cy="3790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6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7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913960" y="228600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85880" y="1309680"/>
            <a:ext cx="84344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chnological 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790560" y="2014560"/>
            <a:ext cx="88106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For thousands of years, environmental conditions kept the size of the human population at a relatively constant numb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ow the environment’s carrying capa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790560" y="4191120"/>
            <a:ext cx="8810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have learned to alter the environment in ways that appear to have changed its carrying capa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85880" y="1309680"/>
            <a:ext cx="4776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uman Population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90560" y="2600280"/>
            <a:ext cx="40114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 human population is still growing, the rate of its growth has s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ch 4 im 19"/>
          <p:cNvPicPr/>
          <p:nvPr/>
        </p:nvPicPr>
        <p:blipFill>
          <a:blip r:embed="rId1"/>
          <a:stretch/>
        </p:blipFill>
        <p:spPr>
          <a:xfrm>
            <a:off x="5511960" y="1393920"/>
            <a:ext cx="4241520" cy="44733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9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Population 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2274840" y="2446200"/>
            <a:ext cx="8050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2281320" y="3097080"/>
            <a:ext cx="73990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785880" y="1309680"/>
            <a:ext cx="84344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rends in Human Populatio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90560" y="1957320"/>
            <a:ext cx="28656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trends can be altered by event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ch 4 im 20"/>
          <p:cNvPicPr/>
          <p:nvPr/>
        </p:nvPicPr>
        <p:blipFill>
          <a:blip r:embed="rId1"/>
          <a:stretch/>
        </p:blipFill>
        <p:spPr>
          <a:xfrm>
            <a:off x="3733920" y="2084400"/>
            <a:ext cx="6253200" cy="36320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7"/>
          <p:cNvGrpSpPr/>
          <p:nvPr/>
        </p:nvGrpSpPr>
        <p:grpSpPr>
          <a:xfrm>
            <a:off x="790560" y="4987800"/>
            <a:ext cx="8886960" cy="1555200"/>
            <a:chOff x="790560" y="4987800"/>
            <a:chExt cx="8886960" cy="1555200"/>
          </a:xfrm>
        </p:grpSpPr>
        <p:sp>
          <p:nvSpPr>
            <p:cNvPr id="292" name="Text Box 8"/>
            <p:cNvSpPr/>
            <p:nvPr/>
          </p:nvSpPr>
          <p:spPr>
            <a:xfrm>
              <a:off x="790560" y="4987800"/>
              <a:ext cx="36291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buClr>
                  <a:srgbClr val="a6000d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uman popul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6"/>
            <p:cNvSpPr/>
            <p:nvPr/>
          </p:nvSpPr>
          <p:spPr>
            <a:xfrm>
              <a:off x="1038240" y="5954400"/>
              <a:ext cx="863928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rowth is not the same in all countri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2"/>
          <p:cNvSpPr/>
          <p:nvPr/>
        </p:nvSpPr>
        <p:spPr>
          <a:xfrm>
            <a:off x="785880" y="2021040"/>
            <a:ext cx="84344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Zero population grow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ZPG) occurs when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785880" y="1309680"/>
            <a:ext cx="84344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ero Populatio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785880" y="3211560"/>
            <a:ext cx="85104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ge structure eventually should be more balanced with numbers at pre-reproductive, reproductive, and post-reproductive ages being approximately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785880" y="1309680"/>
            <a:ext cx="889164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3"/>
          <p:cNvGrpSpPr/>
          <p:nvPr/>
        </p:nvGrpSpPr>
        <p:grpSpPr>
          <a:xfrm>
            <a:off x="785880" y="1957320"/>
            <a:ext cx="8967600" cy="3949920"/>
            <a:chOff x="785880" y="1957320"/>
            <a:chExt cx="8967600" cy="3949920"/>
          </a:xfrm>
        </p:grpSpPr>
        <p:sp>
          <p:nvSpPr>
            <p:cNvPr id="304" name="Text Box 10"/>
            <p:cNvSpPr/>
            <p:nvPr/>
          </p:nvSpPr>
          <p:spPr>
            <a:xfrm>
              <a:off x="785880" y="1957320"/>
              <a:ext cx="2795400" cy="30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buClr>
                  <a:srgbClr val="a6000d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population’s </a:t>
              </a:r>
              <a:r>
                <a:rPr b="0" lang="en-US" sz="2800" spc="-1" strike="noStrike">
                  <a:solidFill>
                    <a:srgbClr val="a6000d"/>
                  </a:solidFill>
                  <a:latin typeface="Arial"/>
                </a:rPr>
                <a:t>age structur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s the number of males and females in each of three age group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1042920" y="4952880"/>
              <a:ext cx="87105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ffc000"/>
                  </a:solidFill>
                  <a:latin typeface="Arial"/>
                </a:rPr>
                <a:t>pre-reproductive stage, reproductive stage, and post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ffc000"/>
                  </a:solidFill>
                  <a:latin typeface="Arial"/>
                </a:rPr>
                <a:t>reproductive stag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"/>
          <p:cNvPicPr/>
          <p:nvPr/>
        </p:nvPicPr>
        <p:blipFill>
          <a:blip r:embed="rId1"/>
          <a:stretch/>
        </p:blipFill>
        <p:spPr>
          <a:xfrm>
            <a:off x="3505320" y="1792440"/>
            <a:ext cx="6476760" cy="319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7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54864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5391000" y="1309680"/>
            <a:ext cx="435960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man Carry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5391000" y="1957320"/>
            <a:ext cx="428652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are concerned about the human population reaching or exceeding the carrying capa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ch 4 im 23"/>
          <p:cNvPicPr/>
          <p:nvPr/>
        </p:nvPicPr>
        <p:blipFill>
          <a:blip r:embed="rId1"/>
          <a:stretch/>
        </p:blipFill>
        <p:spPr>
          <a:xfrm>
            <a:off x="671400" y="1392120"/>
            <a:ext cx="4461120" cy="51469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9"/>
          <p:cNvSpPr/>
          <p:nvPr/>
        </p:nvSpPr>
        <p:spPr>
          <a:xfrm>
            <a:off x="5391000" y="4314960"/>
            <a:ext cx="451512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n important factor is the amount of resources from the biosphere that are used by each 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4" descr="Bio-Forward"/>
          <p:cNvPicPr/>
          <p:nvPr/>
        </p:nvPicPr>
        <p:blipFill>
          <a:blip r:embed="rId2"/>
          <a:stretch/>
        </p:blipFill>
        <p:spPr>
          <a:xfrm>
            <a:off x="6640560" y="6745320"/>
            <a:ext cx="4795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DQ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1508040" y="2940120"/>
            <a:ext cx="687240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ig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1457280" y="414036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term is used to describe the number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s moving into a population?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4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DQ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1447920" y="350532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1523880" y="3048120"/>
            <a:ext cx="769644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of spacing of a population in 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rganisms in 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er in which a population g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population density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5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DQ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1508040" y="2509920"/>
            <a:ext cx="77882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irth rate equals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eath rate exceeds bir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irth rate exceeds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zero bir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1438200" y="252396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does zero population growth occur?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1508040" y="2514600"/>
            <a:ext cx="63435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3"/>
          <p:cNvSpPr/>
          <p:nvPr/>
        </p:nvSpPr>
        <p:spPr>
          <a:xfrm>
            <a:off x="1457280" y="263844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a density-dependent facto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1508040" y="2514600"/>
            <a:ext cx="60357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1"/>
          <p:cNvSpPr/>
          <p:nvPr/>
        </p:nvSpPr>
        <p:spPr>
          <a:xfrm>
            <a:off x="1442880" y="3214800"/>
            <a:ext cx="60984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a density-independent facto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4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1508040" y="3011400"/>
            <a:ext cx="741060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vailable nutr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temper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3"/>
          <p:cNvSpPr/>
          <p:nvPr/>
        </p:nvSpPr>
        <p:spPr>
          <a:xfrm>
            <a:off x="1461960" y="420048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factor can limit the carrying capac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a populatio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8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0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Population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790560" y="27255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pat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790560" y="342900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isp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0384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7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508040" y="3400560"/>
            <a:ext cx="59594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ioinfor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thn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4"/>
          <p:cNvSpPr/>
          <p:nvPr/>
        </p:nvSpPr>
        <p:spPr>
          <a:xfrm>
            <a:off x="1447920" y="408924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udy of the size, density, distribu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movement of the human popul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_______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2"/>
          <p:cNvGrpSpPr/>
          <p:nvPr/>
        </p:nvGrpSpPr>
        <p:grpSpPr>
          <a:xfrm>
            <a:off x="1508040" y="3657600"/>
            <a:ext cx="4665600" cy="2583360"/>
            <a:chOff x="1508040" y="3657600"/>
            <a:chExt cx="4665600" cy="2583360"/>
          </a:xfrm>
        </p:grpSpPr>
        <p:sp>
          <p:nvSpPr>
            <p:cNvPr id="395" name="Text Box 16"/>
            <p:cNvSpPr/>
            <p:nvPr/>
          </p:nvSpPr>
          <p:spPr>
            <a:xfrm>
              <a:off x="1508040" y="3657600"/>
              <a:ext cx="466416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343080" indent="-343080">
                <a:lnSpc>
                  <a:spcPct val="120000"/>
                </a:lnSpc>
                <a:buClr>
                  <a:srgbClr val="a6000d"/>
                </a:buClr>
                <a:buFont typeface="Arial"/>
                <a:buAutoNum type="alphaUcPeriod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creased agricult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a6000d"/>
                </a:buClr>
                <a:buFont typeface="Arial"/>
                <a:buAutoNum type="alphaUcPeriod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amine and w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a6000d"/>
                </a:buClr>
                <a:buFont typeface="Arial"/>
                <a:buAutoNum type="alphaUcPeriod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tbacks in medic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17"/>
            <p:cNvGrpSpPr/>
            <p:nvPr/>
          </p:nvGrpSpPr>
          <p:grpSpPr>
            <a:xfrm>
              <a:off x="1509840" y="5195880"/>
              <a:ext cx="4663800" cy="1045080"/>
              <a:chOff x="1509840" y="5195880"/>
              <a:chExt cx="4663800" cy="1045080"/>
            </a:xfrm>
          </p:grpSpPr>
          <p:sp>
            <p:nvSpPr>
              <p:cNvPr id="397" name="Text Box 18"/>
              <p:cNvSpPr/>
              <p:nvPr/>
            </p:nvSpPr>
            <p:spPr>
              <a:xfrm>
                <a:off x="1509840" y="5195880"/>
                <a:ext cx="4663800" cy="6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marL="343080" indent="-343080">
                  <a:lnSpc>
                    <a:spcPct val="120000"/>
                  </a:lnSpc>
                  <a:buClr>
                    <a:srgbClr val="a6000d"/>
                  </a:buClr>
                  <a:buFont typeface="Arial"/>
                  <a:buAutoNum type="alphaUcPeriod" startAt="4"/>
                  <a:tabLst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oluntary popula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19"/>
              <p:cNvSpPr/>
              <p:nvPr/>
            </p:nvSpPr>
            <p:spPr>
              <a:xfrm>
                <a:off x="1962000" y="5627880"/>
                <a:ext cx="3595680" cy="6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marL="343080" indent="-343080">
                  <a:lnSpc>
                    <a:spcPct val="12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tro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Oval 20"/>
          <p:cNvSpPr/>
          <p:nvPr/>
        </p:nvSpPr>
        <p:spPr>
          <a:xfrm>
            <a:off x="1442880" y="528480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1" descr="ch 4 im 19"/>
          <p:cNvPicPr/>
          <p:nvPr/>
        </p:nvPicPr>
        <p:blipFill>
          <a:blip r:embed="rId2"/>
          <a:stretch/>
        </p:blipFill>
        <p:spPr>
          <a:xfrm>
            <a:off x="5867280" y="2743200"/>
            <a:ext cx="3467160" cy="3657600"/>
          </a:xfrm>
          <a:prstGeom prst="rect">
            <a:avLst/>
          </a:prstGeom>
          <a:ln w="0">
            <a:noFill/>
          </a:ln>
        </p:spPr>
      </p:pic>
      <p:sp>
        <p:nvSpPr>
          <p:cNvPr id="401" name="TPQuestion"/>
          <p:cNvSpPr/>
          <p:nvPr/>
        </p:nvSpPr>
        <p:spPr>
          <a:xfrm>
            <a:off x="1170000" y="1717560"/>
            <a:ext cx="49068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a primary reason for the decline in the percent growth of the human population after 1962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8" descr="Assesment"/>
          <p:cNvPicPr/>
          <p:nvPr/>
        </p:nvPicPr>
        <p:blipFill>
          <a:blip r:embed="rId3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7391520" y="4724280"/>
            <a:ext cx="380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1508040" y="3014640"/>
            <a:ext cx="51246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1447920" y="488484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PQuestion"/>
          <p:cNvSpPr/>
          <p:nvPr/>
        </p:nvSpPr>
        <p:spPr>
          <a:xfrm>
            <a:off x="1170000" y="1717560"/>
            <a:ext cx="81262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ill happen to the human popul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birthrate equals the death rat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0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Q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2" descr="ch 4 ct q 1"/>
          <p:cNvPicPr/>
          <p:nvPr/>
        </p:nvPicPr>
        <p:blipFill>
          <a:blip r:embed="rId2"/>
          <a:stretch/>
        </p:blipFill>
        <p:spPr>
          <a:xfrm>
            <a:off x="4724280" y="28195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3"/>
          <p:cNvSpPr/>
          <p:nvPr/>
        </p:nvSpPr>
        <p:spPr>
          <a:xfrm>
            <a:off x="1508040" y="3417840"/>
            <a:ext cx="702468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s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4"/>
          <p:cNvSpPr/>
          <p:nvPr/>
        </p:nvSpPr>
        <p:spPr>
          <a:xfrm>
            <a:off x="1447920" y="352116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92556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Assessm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PQuestion"/>
          <p:cNvSpPr/>
          <p:nvPr/>
        </p:nvSpPr>
        <p:spPr>
          <a:xfrm>
            <a:off x="1170000" y="1717560"/>
            <a:ext cx="49068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type of population growth model does this graph represent?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7" descr="Assesment"/>
          <p:cNvPicPr/>
          <p:nvPr/>
        </p:nvPicPr>
        <p:blipFill>
          <a:blip r:embed="rId3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Q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3" descr="ch 4 im 23"/>
          <p:cNvPicPr/>
          <p:nvPr/>
        </p:nvPicPr>
        <p:blipFill>
          <a:blip r:embed="rId2"/>
          <a:stretch/>
        </p:blipFill>
        <p:spPr>
          <a:xfrm>
            <a:off x="7140600" y="1414440"/>
            <a:ext cx="2251080" cy="25956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4"/>
          <p:cNvSpPr/>
          <p:nvPr/>
        </p:nvSpPr>
        <p:spPr>
          <a:xfrm>
            <a:off x="1508040" y="3054240"/>
            <a:ext cx="595944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a has very little land for farm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rmany is smaller per acre than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 United Sta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land is used to support an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dividual in the United Sta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erson in Indonesia requires more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and than a person in Brazi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4"/>
          <p:cNvSpPr/>
          <p:nvPr/>
        </p:nvSpPr>
        <p:spPr>
          <a:xfrm>
            <a:off x="1433520" y="447660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92556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Assessm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PQuestion"/>
          <p:cNvSpPr/>
          <p:nvPr/>
        </p:nvSpPr>
        <p:spPr>
          <a:xfrm>
            <a:off x="1170000" y="1717560"/>
            <a:ext cx="58402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the information in the graph, infer which statement accurately represents the information provid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8" descr="Assesment"/>
          <p:cNvPicPr/>
          <p:nvPr/>
        </p:nvPicPr>
        <p:blipFill>
          <a:blip r:embed="rId3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1170000" y="1717560"/>
            <a:ext cx="7743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graph to explain the growth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ice pop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ch 4 im 9 and 10"/>
          <p:cNvPicPr/>
          <p:nvPr/>
        </p:nvPicPr>
        <p:blipFill>
          <a:blip r:embed="rId1"/>
          <a:stretch/>
        </p:blipFill>
        <p:spPr>
          <a:xfrm>
            <a:off x="3132000" y="2938320"/>
            <a:ext cx="4230720" cy="32083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10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92556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Assessm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Q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14"/>
          <p:cNvGrpSpPr/>
          <p:nvPr/>
        </p:nvGrpSpPr>
        <p:grpSpPr>
          <a:xfrm>
            <a:off x="1170000" y="1517760"/>
            <a:ext cx="9043920" cy="4849560"/>
            <a:chOff x="1170000" y="1517760"/>
            <a:chExt cx="9043920" cy="4849560"/>
          </a:xfrm>
        </p:grpSpPr>
        <p:sp>
          <p:nvSpPr>
            <p:cNvPr id="443" name="Text Box 4"/>
            <p:cNvSpPr/>
            <p:nvPr/>
          </p:nvSpPr>
          <p:spPr>
            <a:xfrm>
              <a:off x="1170000" y="1517760"/>
              <a:ext cx="90439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a6000d"/>
                  </a:solidFill>
                  <a:latin typeface="Arial"/>
                  <a:ea typeface="Times New Roman"/>
                </a:rPr>
                <a:t>Answer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If two adult mice breed and produce a litt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2557440" y="1910160"/>
              <a:ext cx="6891480" cy="44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d their offspring survive to breed, then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pulation grows slowly at first. This slow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owth is defined as the lag phase. The rat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 population growth begins to increas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pidly because the total number of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sms that are able to reproduce ha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reased. Exponential growth occurs whe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owth rate is proportional to the size of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population. All populations grow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ponentially until some limiting factor slow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population’s growth.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9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92556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Assessm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Q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0" descr="Assesment"/>
          <p:cNvPicPr/>
          <p:nvPr/>
        </p:nvPicPr>
        <p:blipFill>
          <a:blip r:embed="rId1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1508040" y="3643200"/>
            <a:ext cx="550224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8"/>
          <p:cNvSpPr/>
          <p:nvPr/>
        </p:nvSpPr>
        <p:spPr>
          <a:xfrm>
            <a:off x="1433520" y="525312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9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PQuestion"/>
          <p:cNvSpPr/>
          <p:nvPr/>
        </p:nvSpPr>
        <p:spPr>
          <a:xfrm>
            <a:off x="1170000" y="1717560"/>
            <a:ext cx="82026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ecologist estimates a population density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3 lemmings per square meter of tundra. W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be the approximate number of lemming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ver 1000 square meters of tundra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4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1508040" y="3643200"/>
            <a:ext cx="695016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gistic s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ati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1433520" y="423072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PQuestion"/>
          <p:cNvSpPr/>
          <p:nvPr/>
        </p:nvSpPr>
        <p:spPr>
          <a:xfrm>
            <a:off x="1170000" y="1717560"/>
            <a:ext cx="82026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cologist finds that over a 1000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lot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ra, lemmings tend to concentrate in clump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drier areas.  What is the term for this patter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spacing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5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2"/>
          <p:cNvSpPr/>
          <p:nvPr/>
        </p:nvSpPr>
        <p:spPr>
          <a:xfrm>
            <a:off x="1508040" y="3638520"/>
            <a:ext cx="76359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4665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density-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4665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limited by biotic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4665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has a limited spatial dis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4665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randomly dispersed in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3"/>
          <p:cNvSpPr/>
          <p:nvPr/>
        </p:nvSpPr>
        <p:spPr>
          <a:xfrm>
            <a:off x="1447920" y="454356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PQuestion"/>
          <p:cNvSpPr/>
          <p:nvPr/>
        </p:nvSpPr>
        <p:spPr>
          <a:xfrm>
            <a:off x="1170000" y="1717560"/>
            <a:ext cx="82026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ine shrimp are able to survive only in certa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kes that have a very high salt concentrati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the correct population characteristic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ine shri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7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85880" y="2023920"/>
            <a:ext cx="904392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es might not be able to expand its population range because it cannot survive the abiotic conditions found in the expanded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85880" y="1309680"/>
            <a:ext cx="3938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pulatio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PQuestion"/>
          <p:cNvSpPr/>
          <p:nvPr/>
        </p:nvSpPr>
        <p:spPr>
          <a:xfrm>
            <a:off x="826920" y="1717560"/>
            <a:ext cx="53834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>
              <a:tabLst>
                <a:tab algn="l" pos="0"/>
                <a:tab algn="l" pos="114480"/>
                <a:tab algn="l" pos="445788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hy does the popula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owth level off at 10,000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3" descr="ch 4 stp q 4"/>
          <p:cNvPicPr/>
          <p:nvPr/>
        </p:nvPicPr>
        <p:blipFill>
          <a:blip r:embed="rId2"/>
          <a:stretch/>
        </p:blipFill>
        <p:spPr>
          <a:xfrm>
            <a:off x="6076800" y="1447920"/>
            <a:ext cx="3248280" cy="24368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7"/>
          <p:cNvSpPr/>
          <p:nvPr/>
        </p:nvSpPr>
        <p:spPr>
          <a:xfrm>
            <a:off x="1781280" y="3824280"/>
            <a:ext cx="370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1508040" y="2743200"/>
            <a:ext cx="458784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Biotic factors have mad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survival difficul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opulation has reach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s carrying capaci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nsity-independent factor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ve slowed the growth of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opul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migration into th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tion has reached th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ximum lim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5"/>
          <p:cNvSpPr/>
          <p:nvPr/>
        </p:nvSpPr>
        <p:spPr>
          <a:xfrm>
            <a:off x="1414440" y="341964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6" descr="Assesment"/>
          <p:cNvPicPr/>
          <p:nvPr/>
        </p:nvPicPr>
        <p:blipFill>
          <a:blip r:embed="rId3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0120" y="4114800"/>
            <a:ext cx="1752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SPic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PQuestion"/>
          <p:cNvSpPr/>
          <p:nvPr/>
        </p:nvSpPr>
        <p:spPr>
          <a:xfrm>
            <a:off x="1170000" y="1717560"/>
            <a:ext cx="78246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>
              <a:tabLst>
                <a:tab algn="l" pos="0"/>
                <a:tab algn="l" pos="114480"/>
                <a:tab algn="l" pos="445788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organism is the best example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strateg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1781280" y="3824280"/>
            <a:ext cx="370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1508040" y="3011400"/>
            <a:ext cx="64166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h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SPic"/>
          <p:cNvSpPr/>
          <p:nvPr/>
        </p:nvSpPr>
        <p:spPr>
          <a:xfrm>
            <a:off x="1461960" y="488628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0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85880" y="1309680"/>
            <a:ext cx="88153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pulation-Limiting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85880" y="2014560"/>
            <a:ext cx="88153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categories of limiting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factors—density-independent factors and density-dependent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785880" y="1309680"/>
            <a:ext cx="7826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ity-Independent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785880" y="1909800"/>
            <a:ext cx="78264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factor in the environment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hat does not depend on the number of members in a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unit area is 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ensity-independent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297080" y="397836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297080" y="458784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297080" y="518796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1297080" y="579276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8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5053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0"/>
          <p:cNvSpPr/>
          <p:nvPr/>
        </p:nvSpPr>
        <p:spPr>
          <a:xfrm>
            <a:off x="785880" y="1309680"/>
            <a:ext cx="7826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ity-Dependent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785880" y="2009880"/>
            <a:ext cx="8663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factor in the environment that depends on the number of members in a population per unit area is 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ensity-dependent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297080" y="368604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297080" y="428148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297080" y="4881600"/>
            <a:ext cx="39607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297080" y="5486400"/>
            <a:ext cx="38098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913960" y="3048120"/>
            <a:ext cx="412560" cy="357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Vlab_100"/>
          <p:cNvPicPr/>
          <p:nvPr/>
        </p:nvPicPr>
        <p:blipFill>
          <a:blip r:embed="rId3"/>
          <a:stretch/>
        </p:blipFill>
        <p:spPr>
          <a:xfrm>
            <a:off x="4965840" y="4305240"/>
            <a:ext cx="3962160" cy="13208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0"/>
          <p:cNvSpPr/>
          <p:nvPr/>
        </p:nvSpPr>
        <p:spPr>
          <a:xfrm>
            <a:off x="6477120" y="4572000"/>
            <a:ext cx="2361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Population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pulation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785880" y="2014560"/>
            <a:ext cx="83581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population growth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GR) explains how fast a given population gr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785880" y="3200400"/>
            <a:ext cx="83581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nat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opulation is the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onential Grow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785880" y="2021040"/>
            <a:ext cx="44719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growth occurs when the growth rate is proportional to the size of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h 4 im 9 and 10"/>
          <p:cNvPicPr/>
          <p:nvPr/>
        </p:nvPicPr>
        <p:blipFill>
          <a:blip r:embed="rId1"/>
          <a:stretch/>
        </p:blipFill>
        <p:spPr>
          <a:xfrm>
            <a:off x="5486400" y="1919160"/>
            <a:ext cx="4522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13"/>
          <p:cNvGrpSpPr/>
          <p:nvPr/>
        </p:nvGrpSpPr>
        <p:grpSpPr>
          <a:xfrm>
            <a:off x="785880" y="4676760"/>
            <a:ext cx="8767800" cy="2052360"/>
            <a:chOff x="785880" y="4676760"/>
            <a:chExt cx="8767800" cy="2052360"/>
          </a:xfrm>
        </p:grpSpPr>
        <p:sp>
          <p:nvSpPr>
            <p:cNvPr id="220" name="Text Box 11"/>
            <p:cNvSpPr/>
            <p:nvPr/>
          </p:nvSpPr>
          <p:spPr>
            <a:xfrm>
              <a:off x="785880" y="4676760"/>
              <a:ext cx="44719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buClr>
                  <a:srgbClr val="a6000d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ll populations grow exponentially unti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1042920" y="5653080"/>
              <a:ext cx="8510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me limiting factor slows the population’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row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1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3-09-30T15:31:21Z</dcterms:modified>
  <cp:revision>506</cp:revision>
  <dc:subject/>
  <dc:title>Glencoe Biology</dc:title>
</cp:coreProperties>
</file>